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74C-AF49-4E24-B3E5-2DCEF66C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8CC-E252-456D-96E1-CD58DFB2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01B-5B26-4B8A-A17D-49354235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4C4-CAA7-43B1-B3EA-31FE3FB5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12B-71D9-4C64-ACC4-D4716ECB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1DE-684B-4ABA-BE60-488FBB1C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CDE-9904-483A-80A5-104CFA87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0D7-CBE4-40A6-B6C6-5DDDC9F0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506-2339-470C-BBEF-6834DDCD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53E-0B3A-4DB0-B30C-8171FA10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27A-8FCD-4DBA-8C35-52CC127B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125-F021-4085-93C4-F903E870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86D1-DC20-42FF-82B2-15533A6AB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5 de febrero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ompras en la papele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n la tienda de rop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R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¿ Comprendes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R12 (1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ver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ve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s una palabra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l secre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verb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español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termina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AR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ER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-IR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tienen que ser una palabra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All verbs in Spanish end in –ar, -er, or –ir and have to be an action w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-AR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-ER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       -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5181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5181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57913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La conju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jug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gnifica cambiar el verbo del INFINITIVO para poder usa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conjugat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eans to change the verb from the INFINITIVE in order to use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or ejemplo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 puede decir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ía 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habl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decir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ía </a:t>
            </a:r>
            <a:r>
              <a:rPr b="1" lang="es-ES_tradnl" sz="2800" spc="-1" strike="noStrike" u="sng">
                <a:solidFill>
                  <a:srgbClr val="cc00cc"/>
                </a:solidFill>
                <a:uFillTx/>
                <a:latin typeface="Arial"/>
              </a:rPr>
              <a:t>habla*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cc"/>
                </a:solidFill>
                <a:latin typeface="Arial"/>
              </a:rPr>
              <a:t>*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í el verbo HABLAR ha sido conjugado; porque para poder usar el verbo, se lo debe conjugar.</a:t>
            </a:r>
            <a:r>
              <a:rPr b="0" lang="es-ES_tradnl" sz="3200" spc="-1" strike="noStrike">
                <a:solidFill>
                  <a:srgbClr val="cc00cc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he verb “to speak” has been conjugated; in order for the verb to be used, it must be conjug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3480" y="3473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¡N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7880" y="419112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cc"/>
                </a:solidFill>
                <a:latin typeface="Arial"/>
              </a:rPr>
              <a:t>¡Si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63240" y="256536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ste verbo 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n el INFI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648320" y="297144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R6-R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5:36:31Z</dcterms:created>
  <dc:creator>Helen Zumaeta</dc:creator>
  <dc:description/>
  <dc:language>en-US</dc:language>
  <cp:lastModifiedBy>Helen Zumaeta</cp:lastModifiedBy>
  <dcterms:modified xsi:type="dcterms:W3CDTF">2012-02-17T16:17:22Z</dcterms:modified>
  <cp:revision>5</cp:revision>
  <dc:subject/>
  <dc:title>Me llamo ________ Clase 6NH La fecha es el 15 de febrero del 2012</dc:title>
</cp:coreProperties>
</file>